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78BD-22B1-41B2-97F5-83EC8717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DEB9-8E1D-4EF8-A6C7-3E232F65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033D-EAC0-435C-9C0B-61206C54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F8AF-5F4E-40A4-8566-3E5605115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F69-5350-4948-913D-1557E0E5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0C3-9AF9-48A9-8B85-4C8DD2597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FD8-26CD-4732-A267-96984D80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F2D6-7B1B-46D6-83E0-253798FF5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E407-150A-4DFB-BBB7-98DB8879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3F72-D57D-4D77-8D02-FE1D21F8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B697-C8C6-4E01-9E43-1D15FDE7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F659-0D6B-414A-8521-72778184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4F5C-26E9-4AB3-97FC-F8B95697A3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ge Essay Rev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790960" y="0"/>
            <a:ext cx="3352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s Nara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lly Hi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ol Wag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should this sentence be rewrit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ummer of 2005 I spent an International Mission trip with my un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summer of 2005, I was able to spend an International Mission trip with my un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should this sentence be rewrit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past three years Emily held an annual money gathering that raised money to go to cystic fibrosis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past three years, Emily has held an annual fundraiser that raises money to go to cystic fibrosis re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should this sentence be rewritt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five o’clock in the morning when I woke up and got my things all set and left the trailer towards the open pasture in which I wanted to hu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5000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ke up at five o’clock in the morning, got my things together, and left the trailer headed towards the open pasture in which I wanted to hu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114800" y="609480"/>
            <a:ext cx="420048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he End...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we love you!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9:00:42Z</dcterms:created>
  <dc:creator>User</dc:creator>
  <dc:description/>
  <dc:language>en-US</dc:language>
  <cp:lastModifiedBy>User</cp:lastModifiedBy>
  <dcterms:modified xsi:type="dcterms:W3CDTF">2006-10-10T19:10:26Z</dcterms:modified>
  <cp:revision>4</cp:revision>
  <dc:subject/>
  <dc:title>College Essay Revisions</dc:title>
</cp:coreProperties>
</file>